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45B70-8BD2-4CDC-BA31-F555ACE834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ED3D6-CA28-4756-87DD-95D226ED0D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E115D-4C4A-4280-B962-2305BF5C3A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EE99EC-BF46-4B9E-AC1D-0B3E1573C3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814320" y="3655080"/>
            <a:ext cx="766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54A8D8-AF94-4B3E-BF33-2D288AD5D5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40120" y="10936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814320" y="36550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40120" y="36550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1BD8F3-FE7F-439D-96AD-FD4A21C447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404880" y="109368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95080" y="109368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814320" y="365508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404880" y="365508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95080" y="365508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9CB89F-B50D-4DD0-BE22-5DE17A8DCD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F709B-A975-411A-94C9-EC38066901D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5A6A1-8F31-4A74-A757-A0BBE575E6F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589F4-4FA5-4383-AAA1-C0D415C3BE2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3738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40120" y="1093680"/>
            <a:ext cx="3738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0F153-0A54-4597-9219-88523DB5DD5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DBF53-921A-48A9-91C9-6B79F60A04D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767880" y="117360"/>
            <a:ext cx="807732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E96E2-3C8B-4FB9-8F5F-1A4D69EB4DF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40120" y="1093680"/>
            <a:ext cx="3738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14320" y="36550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0CBA8-5223-4A1A-9F4A-4BA971011CB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03CA54-4D3B-4544-AA73-65BF0D52C65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3738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40120" y="10936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740120" y="36550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4913B-6422-4DEA-8E80-55F899EA9B1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40120" y="10936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14320" y="3655080"/>
            <a:ext cx="766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03FD0-006B-4EA9-ACAE-A13EBE86121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814320" y="3655080"/>
            <a:ext cx="766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22423-860E-4DD2-9033-6A99F6C05D8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40120" y="10936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14320" y="36550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740120" y="36550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253FD-EB45-4F76-ACB6-162DD4FF42F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404880" y="109368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95080" y="109368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814320" y="365508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404880" y="365508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95080" y="365508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5B740-C17A-489B-B3DF-DAEDDC84C52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AEC7CA-32E9-4E64-B055-3C3B8F574C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3738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40120" y="1093680"/>
            <a:ext cx="3738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A5CA7C-FC16-4F43-A416-9008068D88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19E32B-C4E6-4CCE-A109-8551742EF5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767880" y="117360"/>
            <a:ext cx="807732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4E6803-8EBF-48A5-B080-04F3A19791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0120" y="1093680"/>
            <a:ext cx="3738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814320" y="36550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77C1F0-22CE-4115-9AE0-B5A0FE0D5E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3738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40120" y="10936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40120" y="36550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7948EC-1B01-4A26-9F36-5C40EF662A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40120" y="10936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814320" y="3655080"/>
            <a:ext cx="766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BDFC90-8D44-48D2-A0CE-531C16CDAC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hyperlink" Target="http://www.db-book.com/" TargetMode="External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f8f8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400"/>
              </a:spcBef>
              <a:buClr>
                <a:srgbClr val="ff99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1400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1400"/>
              </a:spcBef>
              <a:buClr>
                <a:srgbClr val="ff99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1400"/>
              </a:spcBef>
              <a:buClr>
                <a:srgbClr val="cc33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1400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1400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669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45AB7-55BB-4584-9698-9B62E28EEFA6}" type="slidenum">
              <a:rPr b="0" lang="en-US" sz="1400" spc="-1" strike="noStrike">
                <a:solidFill>
                  <a:srgbClr val="66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4"/>
          <p:cNvSpPr/>
          <p:nvPr/>
        </p:nvSpPr>
        <p:spPr>
          <a:xfrm>
            <a:off x="6765120" y="6613560"/>
            <a:ext cx="237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3300"/>
                </a:solidFill>
                <a:latin typeface="Arial"/>
              </a:rPr>
              <a:t>©Silberschatz, Korth and Sudarsh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 Box 5"/>
          <p:cNvSpPr/>
          <p:nvPr/>
        </p:nvSpPr>
        <p:spPr>
          <a:xfrm>
            <a:off x="4256280" y="6613560"/>
            <a:ext cx="89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3300"/>
                </a:solidFill>
                <a:latin typeface="Arial"/>
              </a:rPr>
              <a:t>4.</a:t>
            </a:r>
            <a:fld id="{723FB999-0264-41C8-A1E4-4B1CDB5138C7}" type="slidenum">
              <a:rPr b="1" lang="en-US" sz="1000" spc="-1" strike="noStrike">
                <a:solidFill>
                  <a:srgbClr val="cc33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" name="Text Box 7"/>
          <p:cNvSpPr/>
          <p:nvPr/>
        </p:nvSpPr>
        <p:spPr>
          <a:xfrm>
            <a:off x="5760" y="6621480"/>
            <a:ext cx="32518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3300"/>
                </a:solidFill>
                <a:latin typeface="Arial"/>
              </a:rPr>
              <a:t>Database System Concepts, 5</a:t>
            </a:r>
            <a:r>
              <a:rPr b="1" lang="en-US" sz="1000" spc="-1" strike="noStrike" baseline="30000">
                <a:solidFill>
                  <a:srgbClr val="cc3300"/>
                </a:solidFill>
                <a:latin typeface="Arial"/>
              </a:rPr>
              <a:t>th</a:t>
            </a:r>
            <a:r>
              <a:rPr b="1" lang="en-US" sz="1000" spc="-1" strike="noStrike">
                <a:solidFill>
                  <a:srgbClr val="cc3300"/>
                </a:solidFill>
                <a:latin typeface="Arial"/>
              </a:rPr>
              <a:t> Edition, Oct 5. 20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Freeform 8"/>
          <p:cNvSpPr/>
          <p:nvPr/>
        </p:nvSpPr>
        <p:spPr>
          <a:xfrm>
            <a:off x="8916840" y="5445000"/>
            <a:ext cx="227160" cy="478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40" bIns="1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Icon11"/>
          <p:cNvPicPr/>
          <p:nvPr/>
        </p:nvPicPr>
        <p:blipFill>
          <a:blip r:embed="rId2"/>
          <a:stretch/>
        </p:blipFill>
        <p:spPr>
          <a:xfrm>
            <a:off x="0" y="0"/>
            <a:ext cx="660240" cy="878040"/>
          </a:xfrm>
          <a:prstGeom prst="rect">
            <a:avLst/>
          </a:prstGeom>
          <a:ln w="0">
            <a:noFill/>
          </a:ln>
        </p:spPr>
      </p:pic>
      <p:pic>
        <p:nvPicPr>
          <p:cNvPr id="8" name="Picture 10" descr="PH01266J"/>
          <p:cNvPicPr/>
          <p:nvPr/>
        </p:nvPicPr>
        <p:blipFill>
          <a:blip r:embed="rId3"/>
          <a:srcRect l="0" t="0" r="0" b="26159"/>
          <a:stretch/>
        </p:blipFill>
        <p:spPr>
          <a:xfrm>
            <a:off x="8528040" y="6053040"/>
            <a:ext cx="615960" cy="614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f8f8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6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7"/>
          <p:cNvSpPr/>
          <p:nvPr/>
        </p:nvSpPr>
        <p:spPr>
          <a:xfrm>
            <a:off x="2706840" y="5726160"/>
            <a:ext cx="3625200" cy="79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Database System Concepts, 5th E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©Silberschatz, Korth and Sudarshan</a:t>
            </a:r>
            <a:br>
              <a:rPr sz="1200"/>
            </a:b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See </a:t>
            </a:r>
            <a:r>
              <a:rPr b="0" lang="en-US" sz="1200" spc="-1" strike="noStrike" u="sng">
                <a:solidFill>
                  <a:srgbClr val="ff9900"/>
                </a:solidFill>
                <a:uFillTx/>
                <a:latin typeface="Arial"/>
                <a:hlinkClick r:id="rId2"/>
              </a:rPr>
              <a:t>www.db-book.com</a:t>
            </a: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 for conditions on re-us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8" descr="Icon11"/>
          <p:cNvPicPr/>
          <p:nvPr/>
        </p:nvPicPr>
        <p:blipFill>
          <a:blip r:embed="rId3"/>
          <a:stretch/>
        </p:blipFill>
        <p:spPr>
          <a:xfrm>
            <a:off x="0" y="0"/>
            <a:ext cx="558720" cy="7430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9" descr="PH01266J"/>
          <p:cNvPicPr/>
          <p:nvPr/>
        </p:nvPicPr>
        <p:blipFill>
          <a:blip r:embed="rId4"/>
          <a:srcRect l="0" t="0" r="0" b="26159"/>
          <a:stretch/>
        </p:blipFill>
        <p:spPr>
          <a:xfrm>
            <a:off x="8528040" y="6053040"/>
            <a:ext cx="615960" cy="6145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400"/>
              </a:spcBef>
              <a:buClr>
                <a:srgbClr val="ff99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1400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1400"/>
              </a:spcBef>
              <a:buClr>
                <a:srgbClr val="ff99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1400"/>
              </a:spcBef>
              <a:buClr>
                <a:srgbClr val="cc33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1400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1400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2"/>
          </p:nvPr>
        </p:nvSpPr>
        <p:spPr>
          <a:xfrm>
            <a:off x="2862360" y="5780160"/>
            <a:ext cx="3448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3"/>
          </p:nvPr>
        </p:nvSpPr>
        <p:spPr>
          <a:xfrm>
            <a:off x="6595920" y="6218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42A6E-D47B-4883-A3BB-1C860F4EAACE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Chapter 4: Advanced SQL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38360" y="9360"/>
            <a:ext cx="807696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Not Null Constraint 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41320" y="1135080"/>
            <a:ext cx="7948800" cy="37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clar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ranch_na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or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ranc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t null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ranch_name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a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5)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t nu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clare the domai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llar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be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t null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reate domain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Dollar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umeri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2,2)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t nu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4"/>
          <p:cNvSpPr/>
          <p:nvPr/>
        </p:nvSpPr>
        <p:spPr>
          <a:xfrm>
            <a:off x="804960" y="5229360"/>
            <a:ext cx="68007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38360" y="9360"/>
            <a:ext cx="807696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The Unique Constraint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40960" y="1135080"/>
            <a:ext cx="7947000" cy="459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iqu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unique specification states that the attribu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, …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 a candidate ke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didate keys are permitted to be null (in contrast to primary key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022400" y="1960560"/>
            <a:ext cx="7678800" cy="29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tabLst>
                <a:tab algn="l" pos="0"/>
                <a:tab algn="l" pos="1428840"/>
                <a:tab algn="l" pos="1711440"/>
                <a:tab algn="l" pos="3319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5"/>
          <p:cNvSpPr/>
          <p:nvPr/>
        </p:nvSpPr>
        <p:spPr>
          <a:xfrm>
            <a:off x="804960" y="5229360"/>
            <a:ext cx="68007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38360" y="9360"/>
            <a:ext cx="807696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The check clause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24040" y="1098360"/>
            <a:ext cx="6384960" cy="80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eck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wher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a predic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4"/>
          <p:cNvSpPr/>
          <p:nvPr/>
        </p:nvSpPr>
        <p:spPr>
          <a:xfrm>
            <a:off x="1214280" y="1638360"/>
            <a:ext cx="6802560" cy="28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tabLst>
                <a:tab algn="l" pos="0"/>
                <a:tab algn="l" pos="1428840"/>
                <a:tab algn="l" pos="1711440"/>
                <a:tab algn="l" pos="3319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 Declar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ranch_nam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s the primary key for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ranc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ensure that the values o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sset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 non-negati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428840"/>
                <a:tab algn="l" pos="1711440"/>
                <a:tab algn="l" pos="3319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ate tabl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ranch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ranch_name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a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15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ranch_city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a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30)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ssets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g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mary ke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ranch_nam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ec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ssets &gt;=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5"/>
          <p:cNvSpPr/>
          <p:nvPr/>
        </p:nvSpPr>
        <p:spPr>
          <a:xfrm>
            <a:off x="804960" y="5229360"/>
            <a:ext cx="68007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464840" y="117360"/>
            <a:ext cx="7380360" cy="595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The check clause (Cont.)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41320" y="1135080"/>
            <a:ext cx="7848720" cy="498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1146240"/>
                <a:tab algn="l" pos="1890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check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ause in SQL-92 permits domains to be restrict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00"/>
              </a:buClr>
              <a:buSzPct val="80000"/>
              <a:buFont typeface="Monotype Sorts" charset="2"/>
              <a:buChar char=""/>
              <a:tabLst>
                <a:tab algn="l" pos="1146240"/>
                <a:tab algn="l" pos="1890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ec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lause to ensure that an hourly_wage domain allows only values greater than a specified valu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88"/>
              </a:spcBef>
              <a:buNone/>
              <a:tabLst>
                <a:tab algn="l" pos="0"/>
                <a:tab algn="l" pos="1146240"/>
                <a:tab algn="l" pos="1890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reate domain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hourly_wag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umeric(5,2)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strai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value_test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ec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valu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 = 4.0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00"/>
              </a:buClr>
              <a:buSzPct val="80000"/>
              <a:buFont typeface="Monotype Sorts" charset="2"/>
              <a:buChar char=""/>
              <a:tabLst>
                <a:tab algn="l" pos="1146240"/>
                <a:tab algn="l" pos="1890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domain has a constraint that ensures that the hourly_wage is greater than 4.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00"/>
              </a:buClr>
              <a:buSzPct val="80000"/>
              <a:buFont typeface="Monotype Sorts" charset="2"/>
              <a:buChar char=""/>
              <a:tabLst>
                <a:tab algn="l" pos="1146240"/>
                <a:tab algn="l" pos="1890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lause </a:t>
            </a: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constrai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value_te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optional; useful to indicate which constraint an update viola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Referential Integrity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41320" y="1134720"/>
            <a:ext cx="7886880" cy="521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sures that a value that appears in one relation for a given set of attributes also appears for a certain set of attributes in another rel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:  If “Perryridge” is a branch name appearing in one of the tuples in th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ccou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elation, then there exists a tuple in th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ranc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elation for branch “Perryridge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mary and candidate keys and foreign keys can be specified as part of the SQL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reate tab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tatemen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primary ke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lause lists attributes that comprise the primary ke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unique ke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lause lists attributes that comprise a candidate ke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foreign ke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lause lists the attributes that comprise the foreign key and the name of the relation referenced by the foreign key. By default, a foreign key references the primary key attributes of the referenced ta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66880" y="66600"/>
            <a:ext cx="807696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Referential Integrity in SQL – Example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41320" y="1135080"/>
            <a:ext cx="656424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reate tabl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ustom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ustomer_name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a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20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ustomer_street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a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30),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ustomer_city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a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30),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imary ke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ustomer_nam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reate tabl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ranch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branch_na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a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5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ranch_city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a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30),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ssets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umeri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2,2),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imary key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ranch_nam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99920" y="228600"/>
            <a:ext cx="8538840" cy="426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Referential Integrity in SQL – Example (Cont.)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41320" y="1135080"/>
            <a:ext cx="656424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2173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reate table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accoun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ccount_number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a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0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ranch_name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a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5),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alance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imary ke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ccount_number),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eign ke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ranch_na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ference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ranch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2173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reate tabl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posito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ustomer_na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a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20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ccount_number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a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0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imary key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ustomer_name, account_number),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eign key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ccount_numbe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reference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ccount,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eign key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ustomer_nam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ference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ustome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Assertion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40960" y="1135080"/>
            <a:ext cx="766116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62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assertion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a predicate expressing a condition that we wish the database always to satisf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62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 assertion in SQL takes the 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62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reate asserti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assertion-name&gt;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ec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&lt;predicat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62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an assertion is made, the system tests it for validity, and tests it again on every update that may violate the asser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00"/>
              </a:buClr>
              <a:buSzPct val="80000"/>
              <a:buFont typeface="Monotype Sorts" charset="2"/>
              <a:buChar char=""/>
              <a:tabLst>
                <a:tab algn="l" pos="62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testing may introduce a significant amount of overhead; hence assertions should be used with great ca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62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ertin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for all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achieved in a round-about fashion using  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not exist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uch that no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Assertion Example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8080" y="113472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461880"/>
                <a:tab algn="l" pos="625320"/>
                <a:tab algn="l" pos="803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ery loan has at least one borrower who maintains an account with a minimum balance or $1000.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461880"/>
                <a:tab algn="l" pos="625320"/>
                <a:tab algn="l" pos="803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reate assertio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alance_constraint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eck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(not exists (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select *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461880"/>
                <a:tab algn="l" pos="625320"/>
                <a:tab algn="l" pos="803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om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oan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re not exists (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select *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from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orrower, depositor, account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oan.loan_number = borrower.loan_number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orrower.customer_name = depositor.customer_name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depositor.account_number = account.account_number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ccount.balance &gt;=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0)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Assertion Example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40960" y="1135080"/>
            <a:ext cx="766116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34596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625320"/>
                <a:tab algn="l" pos="966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um of all loan amounts for each branch must be less than the sum of all account balances at the bran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5960" indent="0">
              <a:spcBef>
                <a:spcPts val="788"/>
              </a:spcBef>
              <a:buNone/>
              <a:tabLst>
                <a:tab algn="l" pos="0"/>
                <a:tab algn="l" pos="625320"/>
                <a:tab algn="l" pos="966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reate assertion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sum_constraint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eck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t exist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*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from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ranch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su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moun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from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oan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oan.branch_name = 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branch.branch_nam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                        &gt;=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sum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moun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from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account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oan.branch_name = 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branch.branch_nam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Chapter 4:  Advanced SQL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41320" y="1134720"/>
            <a:ext cx="6843600" cy="488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QL Data Types and Schem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grity Constrain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hor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bedded SQ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ynamic SQ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ctions and Procedural Constructs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ursive Queries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vanced SQL Features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1434960" y="-76356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Authorization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40960" y="1134720"/>
            <a:ext cx="8115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s of authorization on parts of  the databa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Read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allows reading, but not modification of da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Inser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allows insertion of new data, but not modification of existing da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Updat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allows modification, but not deletion of da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Delet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allows deletion of da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s of authorization to modify the database schema (covered in Chapter 8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Index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allows creation and deletion of indic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Resource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allows creation of new rela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Alterati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allows addition or deletion of attributes in a rel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Drop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allows deletion of rela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Authorization Specification in SQL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40960" y="1135080"/>
            <a:ext cx="766116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gr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tatement is used to confer author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r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&lt;privilege list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relation name or view name&gt;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&lt;user list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user list&gt; 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user-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which allows all valid users the privilege gra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role (more on this in Chapter 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nting a privilege on a view does not imply granting any privileges on the underlying rela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ntor of the privilege must already hold the privilege on the specified item (or be the database administrator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Privileges in SQL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41320" y="1134720"/>
            <a:ext cx="7290000" cy="444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selec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llows read access to relation,or the ability to query using the 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: grant user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uthorization on th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ranch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rant select o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ranch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 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 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ins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the ability to insert tu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upda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the ability  to update using the SQL update stat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dele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the ability to delete 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all privileg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used as a short form for all the allowable privile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in Chapter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Revoking Authorization in SQL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40960" y="1135080"/>
            <a:ext cx="766116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revok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ment is used to revoke authoriz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vok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privilege list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relation name or view name&gt;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om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user list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voke select o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ranch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om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 U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 U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privilege-list&gt; may b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l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revoke all privileges the revokee may hol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&lt;revokee-list&gt; include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ublic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users lose the privilege except those granted it explicit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the same privilege was granted twice to the same user by different grantees, the user may retain the privilege after the revoc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privileges that depend on the privilege being revoked are also revok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Embedded SQL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41320" y="1134720"/>
            <a:ext cx="7848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74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QL standard defines embeddings of SQL in a variety of programming languages such as C, Java, and Cobo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74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language to which SQL queries are embedded is referred to as a 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host languag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and the SQL structures permitted in the host language compris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mbedded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Q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74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basic form of these languages follows that of the System R embedding of SQL into PL/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74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EXEC SQ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tatement is used to identify embedded SQL request to the preproces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74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EC SQL &lt;embedded SQL statement &gt; END_EXE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74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e: this varies by language (for example, the Java embedding us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# SQL { …. }; 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Example Query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28360" y="2233080"/>
            <a:ext cx="7970760" cy="33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66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y the query in SQL and declare a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urs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for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66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EC SQ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66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clar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cursor for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selec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positor.customer_name, customer_city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om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positor, customer, account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positor.customer_name = customer.customer_name        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depositor account_number = account.account_number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ccount.balance &gt; :amou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66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D_EXE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66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4"/>
          <p:cNvSpPr/>
          <p:nvPr/>
        </p:nvSpPr>
        <p:spPr>
          <a:xfrm>
            <a:off x="841320" y="1135080"/>
            <a:ext cx="72388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66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within a host language, find the names and cities of customers with more than the variable 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amou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ollars in some accou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Embedded SQL (Cont.)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40960" y="1135080"/>
            <a:ext cx="766116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ctr" pos="3139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 ope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tatement causes the query to be evalu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ctr" pos="3139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EC SQL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pe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D_EXE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ctr" pos="3139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fetc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ment causes the values of one tuple in the query result to be placed on host language variab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ctr" pos="3139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EC SQ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fetch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o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n, :c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ND_EXEC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eated calls t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tc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get successive tuples in the query 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ctr" pos="3139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variable called SQLSTATE in the SQL communication area (SQLCA) gets set to ‘02000’ to indicate no more data is avai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ctr" pos="3139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clos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ment causes the database system to delete the temporary relation that holds the result of the que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ctr" pos="3139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EC SQL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ND_EXE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ctr" pos="3139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e: above details vary with language.  For example, the Java embedding defines Java iterators to step through result 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Updates Through Cursor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6" name="Rectangle 3"/>
          <p:cNvSpPr/>
          <p:nvPr/>
        </p:nvSpPr>
        <p:spPr>
          <a:xfrm>
            <a:off x="841320" y="1135080"/>
            <a:ext cx="784872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ctr" pos="3139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update tuples fetched by cursor by declaring that the cursor is for up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tabLst>
                <a:tab algn="l" pos="0"/>
                <a:tab algn="ctr" pos="3139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clar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ursor fo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selec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om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ccount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r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ranch_na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‘Perryridge’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 up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ctr" pos="3139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update tuple at the current location of cursor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tabLst>
                <a:tab algn="l" pos="0"/>
                <a:tab algn="ctr" pos="3139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pdat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ccount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alance = bala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 100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re current o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788"/>
              </a:spcBef>
              <a:tabLst>
                <a:tab algn="l" pos="0"/>
                <a:tab algn="ctr" pos="3139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Dynamic SQL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40960" y="1135080"/>
            <a:ext cx="7829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142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ows programs to construct and submit SQL queries at run ti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142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 of the use of dynamic SQL from within a C program.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ar *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sqlprog = 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pdat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ccount 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balance = balance *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05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ccount_number = ?”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EC SQL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pare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dynpro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from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:sqlprog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ar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accoun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10] = “A-101”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EC SQL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ecut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ynpro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using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:accoun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142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dynamic SQL program contains a ?, which is a place holder for a value that is provided when the SQL program is exec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ODBC and JDBC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I (application-program interface) for a program to interact with a database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ication makes calls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 with the database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nd SQL commands to the database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tch tuples of result one-by-one into program 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DBC (Open Database Connectivity) works with C, C++, C#, and Visual Bas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DBC (Java Database Connectivity) works with Ja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7160" y="306000"/>
            <a:ext cx="7264440" cy="552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Built-in Data Types in SQL 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41320" y="1134720"/>
            <a:ext cx="784872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125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date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Dates, containing a (4 digit) year, month and 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00"/>
              </a:buClr>
              <a:buSzPct val="80000"/>
              <a:buFont typeface="Monotype Sorts" charset="2"/>
              <a:buChar char=""/>
              <a:tabLst>
                <a:tab algn="l" pos="125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: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‘2005-7-27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125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time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ime of day, in hours, minutes and secon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00"/>
              </a:buClr>
              <a:buSzPct val="80000"/>
              <a:buFont typeface="Monotype Sorts" charset="2"/>
              <a:buChar char=""/>
              <a:tabLst>
                <a:tab algn="l" pos="125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i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‘09:00:30’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i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‘09:00:30.75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125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timestam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date plus time of 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00"/>
              </a:buClr>
              <a:buSzPct val="80000"/>
              <a:buFont typeface="Monotype Sorts" charset="2"/>
              <a:buChar char=""/>
              <a:tabLst>
                <a:tab algn="l" pos="125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: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imestam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‘2005-7-27 09:00:30.75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125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interval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period of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00"/>
              </a:buClr>
              <a:buSzPct val="80000"/>
              <a:buFont typeface="Monotype Sorts" charset="2"/>
              <a:buChar char=""/>
              <a:tabLst>
                <a:tab algn="l" pos="125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:   interval  ‘1’ 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00"/>
              </a:buClr>
              <a:buSzPct val="80000"/>
              <a:buFont typeface="Monotype Sorts" charset="2"/>
              <a:buChar char=""/>
              <a:tabLst>
                <a:tab algn="l" pos="125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tracting a date/time/timestamp value from another gives an interval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00"/>
              </a:buClr>
              <a:buSzPct val="80000"/>
              <a:buFont typeface="Monotype Sorts" charset="2"/>
              <a:buChar char=""/>
              <a:tabLst>
                <a:tab algn="l" pos="125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val values can be added to date/time/timestamp val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ODBC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41320" y="1134720"/>
            <a:ext cx="7848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n DataBase Connectivity(ODBC) standar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 for application program to communicate with a database serv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ication program interface (API) 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n a connection with a databas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nd queries and update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 back resul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ications such as GUI, spreadsheets, etc. can use ODB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ODBC  (Cont.)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41320" y="1134720"/>
            <a:ext cx="7848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database system supporting ODBC provides a "driver" library that must be linked with the client progra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client program makes an ODBC API call, the code in the library communicates with the server to carry out the requested action, and fetch resul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DBC program first allocates an SQL environment, then a database connection hand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ns database connection using SQLConnect().  Parameters for SQLConne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ff99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nection handle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ff99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server to which to conne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ff99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user identifier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ff99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sswo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t also specify types of argumen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ff99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QL_NTS denotes previous argument is a null-terminated stri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52600" y="-9720"/>
            <a:ext cx="807696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ODBC Code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76240" y="1134720"/>
            <a:ext cx="82677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 ODBCexample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TCODE erro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NV    env;     /* environment */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DBC    conn;  /* database connection */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QLAllocEnv(&amp;env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QLAllocConnect(env, &amp;con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QLConnect(conn, "aura.bell-labs.com", SQL_NTS, "avi", SQL_NTS, "avipasswd", SQL_NTS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{ …. Do actual work …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QLDisconnect(con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QLFreeConnect(con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QLFreeEnv(env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ODBC Code (Cont.)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841320" y="1134720"/>
            <a:ext cx="802656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 sends SQL commands to the database by using SQLExecDir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ult tuples are fetched using SQLFetch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QLBindCol() binds C language variables to attributes of the query resul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en a tuple is fetched, its attribute values are automatically stored in corresponding C variabl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guments to SQLBindCol(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00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DBC stmt variable, attribute position in query resul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00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type conversion from SQL to C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00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address of the variabl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00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variable-length types like character arrays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00"/>
              </a:spcBef>
              <a:buClr>
                <a:srgbClr val="ff9900"/>
              </a:buClr>
              <a:buFont typeface="Helvetic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maximum length of the variab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00"/>
              </a:spcBef>
              <a:buClr>
                <a:srgbClr val="ff9900"/>
              </a:buClr>
              <a:buFont typeface="Helvetic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cation to store actual length when a tuple is fetch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00"/>
              </a:spcBef>
              <a:buClr>
                <a:srgbClr val="ff9900"/>
              </a:buClr>
              <a:buFont typeface="Helvetic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e: A negative value returned for the length field indicates null val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od programming requires checking results of every function call for errors; we have omitted most checks for brevi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ODBC Code (Cont.)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87040" y="1134720"/>
            <a:ext cx="8356680" cy="55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in body of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ar branchname[80]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oat  balance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  lenOut1, lenOut2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STMT   stmt;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QLAllocStmt(conn, &amp;stmt)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ar * sqlquery = "select branch_name, sum (balance)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from ac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group by branch_name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rror = SQLExecDirect(stmt, sqlquery, SQL_NTS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f (error == SQL_SUCCESS) {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SQLBindCol(stmt, 1, SQL_C_CHAR,   branchname , 80, &amp;lenOut1)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SQLBindCol(stmt, 2, SQL_C_FLOAT, &amp;balance,         0 , &amp;lenOut2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(SQLFetch(stmt) &gt;= SQL_SUCCESS) {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printf (" %s  %g\n", branchname, balance)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}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QLFreeStmt(stmt, SQL_DROP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52600" y="85320"/>
            <a:ext cx="807696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More ODBC Feature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41320" y="1162080"/>
            <a:ext cx="8515440" cy="569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Prepared Stat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QL statement prepared: compiled at the data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have placeholders:  E.g.  insert into account values(?,?,?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eatedly executed with actual values for the placehol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Metadata fea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ding all the relations in the database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ding the names and types of columns of a query result or a relation in the databa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 default, each SQL statement is treated as a separate transaction that is committed automatical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turn off automatic commit on a 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QLSetConnectOption(conn, SQL_AUTOCOMMIT, 0)}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actions must then be committed or rolled back explicitly b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QLTransact(conn, SQL_COMMIT)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QLTransact(conn, SQL_ROLLBAC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ODBC Conformance Level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40960" y="1135080"/>
            <a:ext cx="766116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formance levels specify subsets of the functionality defined by the standar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 requires support for metadata query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 requires ability to send and retrieve arrays of parameter values and more detailed catalog inform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QL Call Level Interface (CLI) standard similar to ODBC interface, but with some minor differenc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JDBC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41320" y="1134720"/>
            <a:ext cx="7848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JDB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a Java API for communicating with database systems supporting SQ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DBC supports a variety of features for querying and updating data, and for retrieving query res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DBC also supports metadata retrieval, such as querying about relations present in the database and the names and types of relation attribu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 for communicating with the databa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n a 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a “statement” ob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ecute queries using the Statement object to send queries and fetch res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ception mechanism to handle err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JDBC Code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840960" y="1135080"/>
            <a:ext cx="8534520" cy="523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ublic static void JDBCexample(String dbid, String userid, String passwd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{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ry {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ass.forName ("oracle.jdbc.driver.OracleDriver"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nection conn = DriverManager.getConnection(   "jdbc:oracle:thin:@aura.bell-labs.com:2000:bankdb", userid, passwd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atement stmt = conn.createStatement(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…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Actual Work …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mt.close();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n.close();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tch (SQLException sqle) {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ystem.out.println("SQLException : " + sqle);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JDBC Code (Cont.)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41320" y="1134720"/>
            <a:ext cx="8129520" cy="534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date to data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y {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mt.executeUpdate(  "insert into account value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('A-9732', 'Perryridge', 1200)"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} catch (SQLException sqle) {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ystem.out.println("Could not insert tuple. " + sql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ecute query and fetch and print resul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ultSet rset = stmt.executeQuery( "select branch_name, avg(balance) 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from account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group by branch_name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(rset.next()) {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ystem.out.println(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rset.getString("branch_name") + "  " + rset.getFloat(2));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90600" y="117360"/>
            <a:ext cx="755496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Build-in Data Types in SQL (Cont.)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40960" y="1134720"/>
            <a:ext cx="6991560" cy="473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125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extract values of individual fields from date/time/timesta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00"/>
              </a:buClr>
              <a:buSzPct val="80000"/>
              <a:buFont typeface="Monotype Sorts" charset="2"/>
              <a:buChar char=""/>
              <a:tabLst>
                <a:tab algn="l" pos="125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: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trac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ear fro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.starttim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88"/>
              </a:spcBef>
              <a:buNone/>
              <a:tabLst>
                <a:tab algn="l" pos="0"/>
                <a:tab algn="l" pos="125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125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cast string types to date/time/timestam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00"/>
              </a:buClr>
              <a:buSzPct val="80000"/>
              <a:buFont typeface="Monotype Sorts" charset="2"/>
              <a:buChar char=""/>
              <a:tabLst>
                <a:tab algn="l" pos="125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: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&lt;string-valued-expression&gt;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 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00"/>
              </a:buClr>
              <a:buSzPct val="80000"/>
              <a:buFont typeface="Monotype Sorts" charset="2"/>
              <a:buChar char=""/>
              <a:tabLst>
                <a:tab algn="l" pos="125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: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&lt;string-valued-expression&gt;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88"/>
              </a:spcBef>
              <a:buNone/>
              <a:tabLst>
                <a:tab algn="l" pos="0"/>
                <a:tab algn="l" pos="125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JDBC Code Details       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40960" y="1135080"/>
            <a:ext cx="766116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ting result field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s.getString(“branchname”) and rs.getString(1) equivalent if branchname is the first argument of select resul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ling with Null val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 a = rs.getInt(“a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f (rs.wasNull()) Systems.out.println(“Got null value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90720" y="-419400"/>
            <a:ext cx="8076960" cy="1057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Procedural Extensions and Stored Procedures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40960" y="1135080"/>
            <a:ext cx="7921800" cy="434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QL provides 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u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languag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mits definition of procedures in SQL, with if-then-else statements, for and while loops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in Chapter 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d Proced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store procedures in the databa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execute them using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l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tat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mit external applications to operate on the database without knowing about internal detai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se features are covered in Chapter 9 (Object Relational Databas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Functions and Procedure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41320" y="1134720"/>
            <a:ext cx="7848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QL:1999 supports functions and proced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ctions/procedures can be written in SQL itself, or in an external programming 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ctions are particularly useful with specialized data types such as images and geometric 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: functions to check if polygons overlap, or to compare images for simila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database systems support 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table-valued function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which can return a relation as a 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QL:1999 also supports a rich set of imperative constructs, inclu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ops, if-then-else, assig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 databases have proprietary procedural extensions to SQL that differ from SQL:19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SQL Function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840960" y="1135080"/>
            <a:ext cx="766116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803160"/>
                <a:tab algn="l" pos="1370160"/>
                <a:tab algn="l" pos="2112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e a function that, given the name of a customer, returns the count of the number of accounts owned by the custom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803160"/>
                <a:tab algn="l" pos="1370160"/>
                <a:tab algn="l" pos="2112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reate functio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ccount_coun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ustomer_nam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rcha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20))</a:t>
            </a:r>
            <a:br>
              <a:rPr sz="18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turns integ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begin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declar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_count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ger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select coun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o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_count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om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positor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positor.customer_name = customer_name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tur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_count;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803160"/>
                <a:tab algn="l" pos="1370160"/>
                <a:tab algn="l" pos="2112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d the name and address of each customer that has more than one accou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803160"/>
                <a:tab algn="l" pos="1370160"/>
                <a:tab algn="l" pos="2112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ustomer_name, customer_street, customer_city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om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customer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ccount_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nt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ustomer_nam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&gt;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Table Function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1120" y="857160"/>
            <a:ext cx="7794720" cy="55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QL:2003 added functions that return a relation as a 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: Return all accounts owned by a given custo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rea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unc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ccounts_o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ustomer_na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a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2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turn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ccount_numb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a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0)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ranch_na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a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5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ala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umeri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2,2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tur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ccount_number, branch_name, balanc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o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ccount 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r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ist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*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o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positor 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r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.customer_name = accounts_of.customer_nam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.account_number = A.account_numbe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Table Functions (cont’d)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*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om tabl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ccounts_of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‘Smith’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09800" y="66600"/>
            <a:ext cx="807696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SQL Procedure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40960" y="1134720"/>
            <a:ext cx="8055000" cy="528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uthor_coun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ction could instead be written as procedu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reate procedur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ccount_count_proc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itl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rcha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20)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_count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ger)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cou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uth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o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_count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om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positor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positor.customer_name = account_count_proc.customer_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dures can be invoked either from an SQL procedure or from embedded SQL, using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l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tate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clar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_count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ll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ccount_count_pro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 ‘Smith’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_cou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dures and functions can be invoked also from dynamic SQ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QL:1999 allows more than one function/procedure of the same name (called name 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overload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, as long as the number of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guments differ, or at least the types of the arguments dif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Procedural Construct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40960" y="1134720"/>
            <a:ext cx="8364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mpound statement: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begin … end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88"/>
              </a:spcBef>
              <a:buClr>
                <a:srgbClr val="ff99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y contain multiple SQL statements betwee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begin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nd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end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88"/>
              </a:spcBef>
              <a:buClr>
                <a:srgbClr val="ff99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ocal variables can be declared within a compound stat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While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nd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repea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statemen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clare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integer default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while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n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 10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et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n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n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+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end while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rep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et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n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n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–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ntil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end rep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Procedural Constructs (Cont.)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840960" y="1135080"/>
            <a:ext cx="766116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Fo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88"/>
              </a:spcBef>
              <a:buClr>
                <a:srgbClr val="ff99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ermits iteration over all results of a qu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88"/>
              </a:spcBef>
              <a:buClr>
                <a:srgbClr val="ff99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ample: find total of all balances at the Perryridge branch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clar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ger defaul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selec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alanc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om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ccount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ranch_nam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‘Perryridge’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se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 r.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alance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Procedural Constructs (cont.)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841320" y="1134720"/>
            <a:ext cx="7988400" cy="54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ditional statements  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f-then-els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To find sum of balances for each of three categories of accounts (with balance &lt;1000, &gt;=1000 and &lt;5000, &gt;= 500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alanc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 1000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n se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alance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lsei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alanc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 5000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n se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alance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lse se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alance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 i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QL:1999 also supports 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s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tatement similar to C case stat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gnaling of exception conditions, and declaring handlers for excep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clar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ut_of_stock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dition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clare exit handler for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ut_of_stock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gin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..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gn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ut-of-stoc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99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handler here i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i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- causes enclosing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gin..en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o be exi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99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 actions possible on exce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User-Defined Type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41320" y="1135080"/>
            <a:ext cx="7601040" cy="508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1146240"/>
                <a:tab algn="l" pos="1890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create typ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truct in SQL creates user-defined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1146240"/>
                <a:tab algn="l" pos="1890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88"/>
              </a:spcBef>
              <a:buNone/>
              <a:tabLst>
                <a:tab algn="l" pos="0"/>
                <a:tab algn="l" pos="1146240"/>
                <a:tab algn="l" pos="1890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reate typ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lla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numeric (12,2) fi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88"/>
              </a:spcBef>
              <a:buNone/>
              <a:tabLst>
                <a:tab algn="l" pos="0"/>
                <a:tab algn="l" pos="1146240"/>
                <a:tab algn="l" pos="1890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1146240"/>
                <a:tab algn="l" pos="1890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create doma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nstruct in SQL-92 creates user-defined domain typ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1146240"/>
                <a:tab algn="l" pos="1890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88"/>
              </a:spcBef>
              <a:buNone/>
              <a:tabLst>
                <a:tab algn="l" pos="0"/>
                <a:tab algn="l" pos="1146240"/>
                <a:tab algn="l" pos="1890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reate domai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erson_nam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a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20)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t nu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88"/>
              </a:spcBef>
              <a:buNone/>
              <a:tabLst>
                <a:tab algn="l" pos="0"/>
                <a:tab algn="l" pos="1146240"/>
                <a:tab algn="l" pos="1890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1146240"/>
                <a:tab algn="l" pos="1890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ypes and domains are similar.  Domains can have constraints, such a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t nul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specified on th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External Language Functions/Procedures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40960" y="1134720"/>
            <a:ext cx="8056440" cy="472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QL:1999 permits the use of functions and procedures written in other languages such as C or C++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claring external language procedures and function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reate procedur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ount_count_proc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ustomer_nam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rcha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20)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nt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nguag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ternal nam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’ /usr/avi/bin/account_count_proc’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reate functi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ount_count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ustomer_nam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rcha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20))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turn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g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nguag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ternal nam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‘/usr/avi/bin/author_count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External Language Routines (Cont.)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40960" y="1135080"/>
            <a:ext cx="793764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nefits of external language functions/procedures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efficient for many operations, and more expressive po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awbac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de to implement function may need to be loaded into database system and executed in the database system’s address sp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sk of accidental corruption of database struc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urity risk, allowing users access to unauthorize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re are alternatives, which give good security at the cost of potentially worse perform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 execution in the database system’s space is used when efficiency is more important than secu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Security with External Language Routines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40960" y="1135080"/>
            <a:ext cx="766116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deal with security probl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sandbo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echniq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is use a safe language like Java, which cannot be used to access/damage other parts of the database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, run external language functions/procedures in a separate process, with no access to the database process’ 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ameters and results communicated via inter-process commun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th have performance overhea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 database systems support both above approaches as well as direct executing in database system address sp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Recursion in SQL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200" y="1164960"/>
            <a:ext cx="7661160" cy="490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QL:1999 permits recursive view defin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: find all employee-manager pairs, where the employee reports to the manager directly or indirectly (that is manager’s manager, manager’s manager’s manager, etc.)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th recursiv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mp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mployee_na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anager_nam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mployee_name, manager_na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o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anag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io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anager.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mployee_na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mp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anager_nam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o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ana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mpl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r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ana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anager_na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mp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m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ye_name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*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o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m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example view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mpl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called th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ransitive closur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f th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anage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The Power of Recursion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71560" y="116532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ursive views make it possible to write queries, such as transitive closure queries, that cannot be written without recursion or iter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99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uition:  Without recursion, a non-recursive non-iterative program can perform only a fixed number of joins o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ana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with itsel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can give only a fixed number of levels of manag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iven a program we can construct a database with a greater number of levels of managers on which the program will not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ing transitive clos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99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next slide shows a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ana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e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99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step of the iterative process constructs an extended version o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mpl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its recursive definition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99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inal result is called th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ixed poin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f the recursive view defini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ursive views are required to b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onotonic.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is, if we add tuples to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an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he view contains all of the tuples it contained before, plus possibly m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61560" y="7272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Example of Fixed-Point Computation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212" name="Picture 3" descr=""/>
          <p:cNvPicPr/>
          <p:nvPr/>
        </p:nvPicPr>
        <p:blipFill>
          <a:blip r:embed="rId1"/>
          <a:srcRect l="465" t="3716" r="698" b="4026"/>
          <a:stretch/>
        </p:blipFill>
        <p:spPr>
          <a:xfrm>
            <a:off x="2938320" y="1165320"/>
            <a:ext cx="3222720" cy="2255760"/>
          </a:xfrm>
          <a:prstGeom prst="rect">
            <a:avLst/>
          </a:prstGeom>
          <a:ln w="38160">
            <a:solidFill>
              <a:srgbClr val="cc3300"/>
            </a:solidFill>
            <a:miter/>
          </a:ln>
        </p:spPr>
      </p:pic>
      <p:pic>
        <p:nvPicPr>
          <p:cNvPr id="213" name="Picture 5" descr=""/>
          <p:cNvPicPr/>
          <p:nvPr/>
        </p:nvPicPr>
        <p:blipFill>
          <a:blip r:embed="rId2"/>
          <a:srcRect l="591" t="35000" r="591" b="35527"/>
          <a:stretch/>
        </p:blipFill>
        <p:spPr>
          <a:xfrm>
            <a:off x="806400" y="3987720"/>
            <a:ext cx="7664400" cy="1714680"/>
          </a:xfrm>
          <a:prstGeom prst="rect">
            <a:avLst/>
          </a:prstGeom>
          <a:ln w="38160">
            <a:solidFill>
              <a:srgbClr val="cc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Advanced SQL Features**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13960" y="1093680"/>
            <a:ext cx="803268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a table with the same schema as an existing tab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reate tab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emp_accou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k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ccou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QL:2003 allows subqueries to occur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nywher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 value is required provided the subquery returns only one value.  This applies to updates as w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QL:2003 allows subqueries in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o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lause to access attributes of other relations in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o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lause using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ter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nstru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.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ustomer_name, num_accou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o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ustomer 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ter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u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*)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o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ccou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r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.customer_name = C.customer_na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his_custom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um_account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Advanced SQL Features (cont’d)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rge construct allows batch processing of upda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: relatio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unds_receiv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ccount_number, amoun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has batch of deposits to be added to the proper account in th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ccoun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e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rg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ccou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*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o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unds_receiv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A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.account_numbe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F.account_numbe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matched then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update s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alanc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balanc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F.amou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End of Chapter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Domain Constraint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40960" y="1135080"/>
            <a:ext cx="7661160" cy="44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Domain constraint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re the most elementary form of integrity constraint. They test values inserted in the database, and test queries to ensure that the comparisons make sens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domains can be created from existing data typ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reate doma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llar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umeri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2, 2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reate doma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ound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umeri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2,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cannot assign or compare a value of type Dollars to a value of type Pounds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ever, we can convert type as below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ound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hould also multiply by the dollar-to-pound conversion-rat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Large-Object Type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rge objects (photos, videos, CAD files, etc.) are stored as a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arge objec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lo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binary large object -- object is a large collection of uninterpreted binary data (whose interpretation is left to an application outside of the database syste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o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character large object -- object is a large collection of character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a query returns a large object, a pointer is returned rather than the large object itself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Integrity Constraint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41320" y="1135080"/>
            <a:ext cx="6631200" cy="509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grity constraints guard against accidental damage to the database, by ensuring that authorized changes to the database do not result in a loss of data consistenc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checking account must have a balance greater than $10,000.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salary of a bank employee must be at least $4.00 an ho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customer must have a (non-null) phone 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38360" y="9360"/>
            <a:ext cx="807696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Constraints on a Single Relation 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40960" y="1134720"/>
            <a:ext cx="7574040" cy="263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t nu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imary k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i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eck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wher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a predic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5"/>
          <p:cNvSpPr/>
          <p:nvPr/>
        </p:nvSpPr>
        <p:spPr>
          <a:xfrm>
            <a:off x="804960" y="5229360"/>
            <a:ext cx="68007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07T19:26:30Z</dcterms:created>
  <dc:creator>Marilyn Turnamian</dc:creator>
  <dc:description/>
  <dc:language>en-US</dc:language>
  <cp:lastModifiedBy>IT-Staff001</cp:lastModifiedBy>
  <cp:lastPrinted>1999-06-28T19:27:31Z</cp:lastPrinted>
  <dcterms:modified xsi:type="dcterms:W3CDTF">2018-08-25T04:59:36Z</dcterms:modified>
  <cp:revision>160</cp:revision>
  <dc:subject/>
  <dc:title>Module 1:   Introduction</dc:title>
</cp:coreProperties>
</file>